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098-926C-419F-8DF1-850B2288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F47-C4CB-4595-B012-5E54D8A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BDC-CC4A-4A74-A7B0-0F38C0E8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9EF-CEAD-4F9F-9D9D-A68D6E1F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84A-19AA-4346-B294-1E188AC7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9137-B952-474A-9FA9-77C5E95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7EC-9D7A-4B68-8531-35C063CA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674-334B-4ED7-A446-38668C88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F499-B42A-4D00-AA77-A18343E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06B7-D83E-434F-9C58-CA7359DA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F5F7-5D47-499F-8ACC-6A8CA36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731-8F0C-43FE-B2C8-C481EDE1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2B89-D5F8-4BAE-9CD7-EDF24B3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CE4-89A4-4BE6-8158-AEB39F6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4C0-120C-4285-A45F-7BA8022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064-2807-43C9-A496-B1321F8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CF7-8719-4729-87BD-22A2FB80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34C-D0DF-4038-AC91-BE345EE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53E-59FD-41EE-8A41-F6F7476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7F9-75F4-4D3A-ACE2-35A99FB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B37-24F9-4694-B5A2-A739CDD2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2EE-B71D-48B8-B038-EECB347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24-CBF4-4AED-8392-6CD0686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DF7-0AB1-4754-B649-97663038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1961-37A0-4659-AB4A-57DE8273D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734-4A58-4EF4-B77D-5CCDCFF5A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eror Pengui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rari McNul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9181-B906-4EC9-B39D-91FA4C8203AF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able to name the habitat, adaptation  and environment of the Emperor Pengu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s and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omewhat different because it’s a seventh grader making this movie; the information will be towards, mainly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ders, but also towards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0:02Z</dcterms:created>
  <dc:creator/>
  <dc:description/>
  <dc:language>en-US</dc:language>
  <cp:lastModifiedBy>City School</cp:lastModifiedBy>
  <dcterms:modified xsi:type="dcterms:W3CDTF">2013-02-19T21:10:34Z</dcterms:modified>
  <cp:revision>38</cp:revision>
  <dc:subject/>
  <dc:title>The Pitch-Then-Plan Business Planning Template</dc:title>
</cp:coreProperties>
</file>